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5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38.jpeg" ContentType="image/jpeg"/>
  <Override PartName="/ppt/media/image22.jpeg" ContentType="image/jpeg"/>
  <Override PartName="/ppt/media/image42.wmf" ContentType="image/x-wmf"/>
  <Override PartName="/ppt/media/image9.png" ContentType="image/png"/>
  <Override PartName="/ppt/media/image40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82E635A9-14E4-4FEA-9FA4-6C2CC91682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5000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60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60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628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7        T.Tammet     IT sissejuhatus loeng 2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AD4739FB-96BE-4DC0-AE7B-EDFCFC570BA2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5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on Llu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: 1235-1315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üst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teo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rs magna, generalis et ultim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9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49640" y="2057400"/>
            <a:ext cx="253980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onardo da Vinc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5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lkulaatori joon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ehitatud katseeksempla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0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8120" y="1477800"/>
            <a:ext cx="3174840" cy="1113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3175200" cy="121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7 sajand: sümbolkeeled matemaatik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i sümbolkeeli püüti luua loogika jaok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püüdlused ebaõnnestusid (kuni 19 sjandi lõpuni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a: nominalistide ja realistide dihhotoom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1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chickard &amp; Pas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chickard 1625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tis ehitanud olema liitva, lahutava, korrutava, jagava masi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istlik filosoof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laise Pascal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0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line masin: ainult liitis ja lahut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hitas ca 50 tükk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1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413080" cy="26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ibni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aksa filosoo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6-171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i arvuti(1671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liitis, lahutas, korrutas, jag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lõi Boole’ga sarnaneva loogikasüsteemi, mis vajus unus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püüdis luua universaalset sümbolkeelt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lingua characteristica universal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ja seda keelt kasutava nn “arutlemise aritmeetika”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calculus ration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2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0228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glise patent, Henry Mill, 1714, ei ehit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eerika patent: 1829 William Austin Burt Detroid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67, Christopher Latham Sholes, Carlos Glidden, Samual W. Soule leiutis: “Type-Writer“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:  1874 (jalgpedaaliga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holes’ klaviatuur ca 1874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voraki klaviatuur ca 193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3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1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31752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 püssiteha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 Typewriter Co. model No. 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ivil war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"In all history, no nation of mere agriculturists ever made successful  war against a nation of mechanics. . . .You are bound to fail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Union officer William Tecumseh Sherman to a Southern frien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3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338120"/>
            <a:ext cx="3125880" cy="3006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343400" y="1201680"/>
            <a:ext cx="479268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he invention of interchang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parts.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chines which would produc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from a preshaped mold, the vario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mponents needed to build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tandard infantry rifl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orkers on an assembly line who wou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struct it. The North, eager to experi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illing to try anything that smack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f economic progress, decid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test the waters of this inviting ne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thod of manufactu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800, Jacquar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4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23960" y="114300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2598840" cy="1922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976480" y="3886200"/>
            <a:ext cx="3424320" cy="1922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172200" y="685800"/>
            <a:ext cx="259092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-i perfokaar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5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43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dustrialis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teke ja põllumajanduse meh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toritöö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6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V="1">
            <a:off x="1600200" y="1139400"/>
            <a:ext cx="1440" cy="160668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27432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7720" y="12412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12668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137160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2081160"/>
            <a:ext cx="160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õllume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45720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17720" y="30700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54080" y="30956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3200400"/>
            <a:ext cx="2103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390996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600200" y="2968200"/>
            <a:ext cx="1440" cy="160668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89120" y="480060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25480" y="482436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4930920"/>
            <a:ext cx="5698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5640480"/>
            <a:ext cx="2308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64008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600200" y="4797000"/>
            <a:ext cx="1440" cy="160668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305920" cy="805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 ja arvutiteaduse sünd: null - teine maailmasõ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rane rehkendamise ajalug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mise teoori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arvutid 17 sajandi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strialiseerimise ideoloog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maldav tehnoloogia: side ja mehaaniline infotöötl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ja arvutamise teooria väljaarenemine 20 sajandi esimesel pool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võimsad arvutid teises maailmasõja paik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 täienduseks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video.google.com/videoplay?docid=-350387730208231144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5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22: Difference Engine, jäi poolel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e: Analytical Eng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 programmeerija: Ada Lovel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8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17440" y="1793880"/>
            <a:ext cx="2540160" cy="3387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84880" y="1793880"/>
            <a:ext cx="2539800" cy="300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: difference eng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9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841320"/>
            <a:ext cx="2743200" cy="2130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193760" y="32004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257800" y="914400"/>
            <a:ext cx="349884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legraa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8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rse 1837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ktritelegraa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atstone 1857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perfoli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 perfoli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2-1910: teleprin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19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743200" y="1319040"/>
            <a:ext cx="3174840" cy="1500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174840" cy="533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800600" y="4456080"/>
            <a:ext cx="3174840" cy="125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orge Boole, de Morga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(lausearvutuse) alused 1847-185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se algebra ideede kasutamine loogika jao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algeb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A = A, 0A = 0, A+0 = A, A+1 = 1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+B = B+A, AB = BA, AA = A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0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katehted on funktsioonid tõeväärtustel T ja 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imkasutatud tehted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amp;     (ja e. kon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    (või e. dis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    (ei e. eitu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&gt;  (järeldus e. implika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=   (samasus e. ekvivalent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A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     --------     ----      -------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1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tehetest saab kokku panna suvalisi avaldisi, m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tõeväärtusfunktsioo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)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B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--------------------------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2         1            4            3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1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asaegse loogika alus: Gottlob Fre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1879: Kontseptuaalne notatsio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"Begriffsschrift"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b kaasaeg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edikaatarvut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Mihkel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A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Ants,Peeter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x, y, z jaoks: Isa(x,y) &amp; Isa(y,z) =&gt; Vanaisa(x,z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õesta, et eksisteerivad z, u nii et Vanaisa(z,u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 filosoofina: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ogits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2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Loogika mitmekesisus 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2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V="1">
            <a:off x="2895480" y="1060560"/>
            <a:ext cx="1800" cy="4279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5334120"/>
            <a:ext cx="4419720" cy="1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4343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uservu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4960" y="3716280"/>
            <a:ext cx="24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tarvu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971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ktsioon jm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2286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16002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ema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73240" y="914400"/>
            <a:ext cx="19051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bstrakt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1840" y="4800600"/>
            <a:ext cx="29185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jendusvahen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5410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imaal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uitsionistl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7800" y="580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aal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eaa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24280" y="4390920"/>
            <a:ext cx="3012840" cy="930240"/>
          </a:xfrm>
          <a:custGeom>
            <a:avLst/>
            <a:gdLst/>
            <a:ahLst/>
            <a:rect l="l" t="t" r="r" b="b"/>
            <a:pathLst>
              <a:path w="8371" h="2582">
                <a:moveTo>
                  <a:pt x="0" y="0"/>
                </a:moveTo>
                <a:cubicBezTo>
                  <a:pt x="427" y="70"/>
                  <a:pt x="873" y="83"/>
                  <a:pt x="1287" y="216"/>
                </a:cubicBezTo>
                <a:cubicBezTo>
                  <a:pt x="1442" y="264"/>
                  <a:pt x="1874" y="414"/>
                  <a:pt x="2072" y="432"/>
                </a:cubicBezTo>
                <a:cubicBezTo>
                  <a:pt x="2623" y="480"/>
                  <a:pt x="4753" y="555"/>
                  <a:pt x="5150" y="573"/>
                </a:cubicBezTo>
                <a:cubicBezTo>
                  <a:pt x="5631" y="529"/>
                  <a:pt x="6094" y="489"/>
                  <a:pt x="6579" y="467"/>
                </a:cubicBezTo>
                <a:cubicBezTo>
                  <a:pt x="7210" y="507"/>
                  <a:pt x="7426" y="595"/>
                  <a:pt x="7942" y="895"/>
                </a:cubicBezTo>
                <a:cubicBezTo>
                  <a:pt x="8034" y="1041"/>
                  <a:pt x="8034" y="1160"/>
                  <a:pt x="8083" y="1328"/>
                </a:cubicBezTo>
                <a:cubicBezTo>
                  <a:pt x="8127" y="1482"/>
                  <a:pt x="8158" y="1478"/>
                  <a:pt x="8189" y="1610"/>
                </a:cubicBezTo>
                <a:cubicBezTo>
                  <a:pt x="8255" y="1883"/>
                  <a:pt x="8281" y="2166"/>
                  <a:pt x="8370" y="2435"/>
                </a:cubicBezTo>
                <a:cubicBezTo>
                  <a:pt x="8356" y="2483"/>
                  <a:pt x="8334" y="2581"/>
                  <a:pt x="8334" y="258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54160" y="4765680"/>
            <a:ext cx="174960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enduv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84320" y="2281320"/>
            <a:ext cx="3351240" cy="3024000"/>
          </a:xfrm>
          <a:custGeom>
            <a:avLst/>
            <a:gdLst/>
            <a:ahLst/>
            <a:rect l="l" t="t" r="r" b="b"/>
            <a:pathLst>
              <a:path w="9307" h="8402">
                <a:moveTo>
                  <a:pt x="0" y="101"/>
                </a:moveTo>
                <a:cubicBezTo>
                  <a:pt x="833" y="0"/>
                  <a:pt x="1623" y="167"/>
                  <a:pt x="2434" y="317"/>
                </a:cubicBezTo>
                <a:cubicBezTo>
                  <a:pt x="3373" y="489"/>
                  <a:pt x="4436" y="432"/>
                  <a:pt x="5332" y="780"/>
                </a:cubicBezTo>
                <a:cubicBezTo>
                  <a:pt x="5557" y="961"/>
                  <a:pt x="5962" y="1212"/>
                  <a:pt x="6227" y="1318"/>
                </a:cubicBezTo>
                <a:cubicBezTo>
                  <a:pt x="6377" y="1380"/>
                  <a:pt x="6434" y="1384"/>
                  <a:pt x="6549" y="1499"/>
                </a:cubicBezTo>
                <a:cubicBezTo>
                  <a:pt x="6752" y="1702"/>
                  <a:pt x="6871" y="1953"/>
                  <a:pt x="7047" y="2178"/>
                </a:cubicBezTo>
                <a:cubicBezTo>
                  <a:pt x="7149" y="2628"/>
                  <a:pt x="6994" y="2055"/>
                  <a:pt x="7228" y="2535"/>
                </a:cubicBezTo>
                <a:cubicBezTo>
                  <a:pt x="7440" y="2967"/>
                  <a:pt x="6964" y="2421"/>
                  <a:pt x="7480" y="2928"/>
                </a:cubicBezTo>
                <a:cubicBezTo>
                  <a:pt x="7568" y="3157"/>
                  <a:pt x="7709" y="3250"/>
                  <a:pt x="7837" y="3466"/>
                </a:cubicBezTo>
                <a:cubicBezTo>
                  <a:pt x="7934" y="3629"/>
                  <a:pt x="7965" y="3792"/>
                  <a:pt x="8124" y="3894"/>
                </a:cubicBezTo>
                <a:cubicBezTo>
                  <a:pt x="8238" y="4132"/>
                  <a:pt x="8348" y="4361"/>
                  <a:pt x="8445" y="4608"/>
                </a:cubicBezTo>
                <a:cubicBezTo>
                  <a:pt x="8476" y="4846"/>
                  <a:pt x="8490" y="5053"/>
                  <a:pt x="8622" y="5256"/>
                </a:cubicBezTo>
                <a:cubicBezTo>
                  <a:pt x="8737" y="5807"/>
                  <a:pt x="8887" y="6354"/>
                  <a:pt x="9019" y="6901"/>
                </a:cubicBezTo>
                <a:cubicBezTo>
                  <a:pt x="9050" y="7258"/>
                  <a:pt x="9085" y="7629"/>
                  <a:pt x="9195" y="7973"/>
                </a:cubicBezTo>
                <a:cubicBezTo>
                  <a:pt x="9226" y="8065"/>
                  <a:pt x="9239" y="8167"/>
                  <a:pt x="9266" y="8259"/>
                </a:cubicBezTo>
                <a:cubicBezTo>
                  <a:pt x="9279" y="8308"/>
                  <a:pt x="9306" y="8401"/>
                  <a:pt x="9306" y="840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34290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uunaliselt lahenduv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5791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monotoon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3886200"/>
            <a:ext cx="304920" cy="30492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251320" y="2209680"/>
            <a:ext cx="1231920" cy="1676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1143000"/>
            <a:ext cx="2446200" cy="10094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edikaatarvu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ollerith’i 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0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90: Herman Hollerith: perfokaartidega masin USA rahvaloenduse andmete töötle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llerith’i firmast tekki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B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5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352680" y="1477800"/>
            <a:ext cx="2286000" cy="24084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342900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akumtor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6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85800" y="685800"/>
            <a:ext cx="6400800" cy="2590920"/>
            <a:chOff x="685800" y="685800"/>
            <a:chExt cx="6400800" cy="2590920"/>
          </a:xfrm>
        </p:grpSpPr>
        <p:grpSp>
          <p:nvGrpSpPr>
            <p:cNvPr id="263" name=""/>
            <p:cNvGrpSpPr/>
            <p:nvPr/>
          </p:nvGrpSpPr>
          <p:grpSpPr>
            <a:xfrm>
              <a:off x="685800" y="838080"/>
              <a:ext cx="4495680" cy="1664640"/>
              <a:chOff x="685800" y="838080"/>
              <a:chExt cx="4495680" cy="1664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85800" y="838080"/>
                <a:ext cx="4495680" cy="160020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5800" y="838080"/>
                <a:ext cx="449568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9840" indent="-33984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9840"/>
                    <a:tab algn="l" pos="797040"/>
                    <a:tab algn="l" pos="1254240"/>
                    <a:tab algn="l" pos="1711440"/>
                    <a:tab algn="l" pos="2168640"/>
                    <a:tab algn="l" pos="2625840"/>
                    <a:tab algn="l" pos="3083040"/>
                    <a:tab algn="l" pos="3540240"/>
                    <a:tab algn="l" pos="3997440"/>
                    <a:tab algn="l" pos="4454640"/>
                    <a:tab algn="l" pos="4911840"/>
                    <a:tab algn="l" pos="5369040"/>
                    <a:tab algn="l" pos="5826240"/>
                    <a:tab algn="l" pos="6283440"/>
                    <a:tab algn="l" pos="6740640"/>
                    <a:tab algn="l" pos="7197840"/>
                    <a:tab algn="l" pos="7655040"/>
                    <a:tab algn="l" pos="8112240"/>
                    <a:tab algn="l" pos="8569440"/>
                    <a:tab algn="l" pos="9026640"/>
                    <a:tab algn="l" pos="94838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宋体"/>
                  </a:rPr>
                  <a:t> (1906, Lee Deforest)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宋体"/>
                  </a:rPr>
                  <a:t>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39840" indent="-339840">
                  <a:lnSpc>
                    <a:spcPct val="88000"/>
                  </a:lnSpc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9840"/>
                    <a:tab algn="l" pos="797040"/>
                    <a:tab algn="l" pos="1254240"/>
                    <a:tab algn="l" pos="1711440"/>
                    <a:tab algn="l" pos="2168640"/>
                    <a:tab algn="l" pos="2625840"/>
                    <a:tab algn="l" pos="3083040"/>
                    <a:tab algn="l" pos="3540240"/>
                    <a:tab algn="l" pos="3997440"/>
                    <a:tab algn="l" pos="4454640"/>
                    <a:tab algn="l" pos="4911840"/>
                    <a:tab algn="l" pos="5369040"/>
                    <a:tab algn="l" pos="5826240"/>
                    <a:tab algn="l" pos="6283440"/>
                    <a:tab algn="l" pos="6740640"/>
                    <a:tab algn="l" pos="7197840"/>
                    <a:tab algn="l" pos="7655040"/>
                    <a:tab algn="l" pos="8112240"/>
                    <a:tab algn="l" pos="8569440"/>
                    <a:tab algn="l" pos="9026640"/>
                    <a:tab algn="l" pos="94838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5867280" y="685800"/>
              <a:ext cx="1219320" cy="259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380880" y="3505320"/>
            <a:ext cx="8534520" cy="3141720"/>
            <a:chOff x="380880" y="3505320"/>
            <a:chExt cx="8534520" cy="3141720"/>
          </a:xfrm>
        </p:grpSpPr>
        <p:grpSp>
          <p:nvGrpSpPr>
            <p:cNvPr id="268" name=""/>
            <p:cNvGrpSpPr/>
            <p:nvPr/>
          </p:nvGrpSpPr>
          <p:grpSpPr>
            <a:xfrm>
              <a:off x="380880" y="3751200"/>
              <a:ext cx="4953240" cy="2895840"/>
              <a:chOff x="380880" y="3751200"/>
              <a:chExt cx="4953240" cy="2895840"/>
            </a:xfrm>
          </p:grpSpPr>
          <p:sp>
            <p:nvSpPr>
              <p:cNvPr id="269" name=""/>
              <p:cNvSpPr/>
              <p:nvPr/>
            </p:nvSpPr>
            <p:spPr>
              <a:xfrm>
                <a:off x="380880" y="3751200"/>
                <a:ext cx="4953240" cy="28958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0880" y="3751200"/>
                <a:ext cx="495324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9840" indent="-33984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9840"/>
                    <a:tab algn="l" pos="797040"/>
                    <a:tab algn="l" pos="1254240"/>
                    <a:tab algn="l" pos="1711440"/>
                    <a:tab algn="l" pos="2168640"/>
                    <a:tab algn="l" pos="2625840"/>
                    <a:tab algn="l" pos="3083040"/>
                    <a:tab algn="l" pos="3540240"/>
                    <a:tab algn="l" pos="3997440"/>
                    <a:tab algn="l" pos="4454640"/>
                    <a:tab algn="l" pos="4911840"/>
                    <a:tab algn="l" pos="5369040"/>
                    <a:tab algn="l" pos="5826240"/>
                    <a:tab algn="l" pos="6283440"/>
                    <a:tab algn="l" pos="6740640"/>
                    <a:tab algn="l" pos="7197840"/>
                    <a:tab algn="l" pos="7655040"/>
                    <a:tab algn="l" pos="8112240"/>
                    <a:tab algn="l" pos="8569440"/>
                    <a:tab algn="l" pos="9026640"/>
                    <a:tab algn="l" pos="94838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39840" indent="-339840">
                  <a:lnSpc>
                    <a:spcPct val="88000"/>
                  </a:lnSpc>
                  <a:tabLst>
                    <a:tab algn="l" pos="0"/>
                    <a:tab algn="l" pos="339840"/>
                    <a:tab algn="l" pos="797040"/>
                    <a:tab algn="l" pos="1254240"/>
                    <a:tab algn="l" pos="1711440"/>
                    <a:tab algn="l" pos="2168640"/>
                    <a:tab algn="l" pos="2625840"/>
                    <a:tab algn="l" pos="3083040"/>
                    <a:tab algn="l" pos="3540240"/>
                    <a:tab algn="l" pos="3997440"/>
                    <a:tab algn="l" pos="4454640"/>
                    <a:tab algn="l" pos="4911840"/>
                    <a:tab algn="l" pos="5369040"/>
                    <a:tab algn="l" pos="5826240"/>
                    <a:tab algn="l" pos="6283440"/>
                    <a:tab algn="l" pos="6740640"/>
                    <a:tab algn="l" pos="7197840"/>
                    <a:tab algn="l" pos="7655040"/>
                    <a:tab algn="l" pos="8112240"/>
                    <a:tab algn="l" pos="8569440"/>
                    <a:tab algn="l" pos="9026640"/>
                    <a:tab algn="l" pos="94838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emits electrons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39840" indent="-33984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9840"/>
                    <a:tab algn="l" pos="797040"/>
                    <a:tab algn="l" pos="1254240"/>
                    <a:tab algn="l" pos="1711440"/>
                    <a:tab algn="l" pos="2168640"/>
                    <a:tab algn="l" pos="2625840"/>
                    <a:tab algn="l" pos="3083040"/>
                    <a:tab algn="l" pos="3540240"/>
                    <a:tab algn="l" pos="3997440"/>
                    <a:tab algn="l" pos="4454640"/>
                    <a:tab algn="l" pos="4911840"/>
                    <a:tab algn="l" pos="5369040"/>
                    <a:tab algn="l" pos="5826240"/>
                    <a:tab algn="l" pos="6283440"/>
                    <a:tab algn="l" pos="6740640"/>
                    <a:tab algn="l" pos="7197840"/>
                    <a:tab algn="l" pos="7655040"/>
                    <a:tab algn="l" pos="8112240"/>
                    <a:tab algn="l" pos="8569440"/>
                    <a:tab algn="l" pos="9026640"/>
                    <a:tab algn="l" pos="94838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receives the electrons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39840" indent="-33984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9840"/>
                    <a:tab algn="l" pos="797040"/>
                    <a:tab algn="l" pos="1254240"/>
                    <a:tab algn="l" pos="1711440"/>
                    <a:tab algn="l" pos="2168640"/>
                    <a:tab algn="l" pos="2625840"/>
                    <a:tab algn="l" pos="3083040"/>
                    <a:tab algn="l" pos="3540240"/>
                    <a:tab algn="l" pos="3997440"/>
                    <a:tab algn="l" pos="4454640"/>
                    <a:tab algn="l" pos="4911840"/>
                    <a:tab algn="l" pos="5369040"/>
                    <a:tab algn="l" pos="5826240"/>
                    <a:tab algn="l" pos="6283440"/>
                    <a:tab algn="l" pos="6740640"/>
                    <a:tab algn="l" pos="7197840"/>
                    <a:tab algn="l" pos="7655040"/>
                    <a:tab algn="l" pos="8112240"/>
                    <a:tab algn="l" pos="8569440"/>
                    <a:tab algn="l" pos="9026640"/>
                    <a:tab algn="l" pos="94838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7010280" y="3505320"/>
              <a:ext cx="1905120" cy="2558160"/>
              <a:chOff x="7010280" y="3505320"/>
              <a:chExt cx="1905120" cy="2558160"/>
            </a:xfrm>
          </p:grpSpPr>
          <p:pic>
            <p:nvPicPr>
              <p:cNvPr id="2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505320"/>
                <a:ext cx="1752840" cy="250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7061040" y="5862600"/>
                <a:ext cx="10670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ath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102520" y="3510000"/>
                <a:ext cx="81288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n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10280" y="3567240"/>
                <a:ext cx="53352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Gr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d kontidel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riood 20,000 - 30,000 aastat tagasi Cro-Magn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imese ilm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: positsiooniline 60-süsteem 1900 kuni 18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iade arvu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l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3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ia 600 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ak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1,000 BC kuni 500 BC,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6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047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gateooria: Georg Canto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 1845-191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teooria rajaj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e avastamine matemaatik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korraga ebakindl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7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ussell &amp; Whitehe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10-1913: massiivne loogikatrakta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incipia Mathematic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 -&gt; tüüpide teeor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lised vaated: logitsis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8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lism; Hilber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 ja matemaatik: 1862-194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listelt vaadetel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rmal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ilberti 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temaatikale kindlate aluste raj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tuleb esitada loogika keeles, range aksiomaatikan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b tõestada, et nimetatud aksiomaatika ei ole vastuoluline, st temast ei ole võimalik tuletada korraga mingit väidet A ja sellesama väite eitust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A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8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uitsionism: Brouwer &amp; Heyt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aktsepteeri 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v -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 -A &lt;=&gt;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(A =&gt; B) =&gt; A) =&gt; A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9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al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ski ja Carna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uletamisreeglite süstee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9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ielikkus ja mittetäielikk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t Gödel (1906-1978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0: loogika baaskeel predikaatarvutus on täiel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1: formaalne aritmeetika ei ole täielik, seda ei saagi lõpliku formaalse süsteemiga kirjeld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õestuse ide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õestuse alusidee on tuntud valetaja paradoks: kas väide ``ma praegu valetan'' on tõene või mitte? Lihtne arutlus näitab, et ta ei saa olla kumbagi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ostame nüüd sellise aritmeetilise väite A, mis ütleb, et seesama A ei ole tõestatav (see väide ei ütle, et A ei ole tõsi!). Siis ei saa väide A ise olla vale. Tõepoolest, kui A oleks vale, siis A sisu kohaselt peaks A olema tõestatav. Kuna me valesid väiteid tõestada ei saa, siib peabki A olema õige. Kuna A on õige, peab kehtima see, mida A väidab: A pole tõestatav. Tõepoolest, kui A oleks tõestatav, siis oleks A sisu ("A ei ole tõestatav") vale, see on aga, nagu näidatud, võimatu. Kokkuvõtteks, A on õige, aga ei A ega A eitus pole tõestatava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0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Turingi masin &amp; Churchi lambda-arvutus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5-1937: artikk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masinast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6: Church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mbda-arvut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hurchi te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0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454560" y="1952640"/>
            <a:ext cx="2286000" cy="26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nnevar Bus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: 1930-1935-1937: Differential Analyzer dif. võrrandite lahenda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imane versio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aalus 100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2000 elektronlamp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50 mootori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uhanded relee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1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udwig Wittgenste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89-195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üütilise filosoofia juhtku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nustas loogilise positivismi ja Viini ringi tek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testatud tekst koosneb kas (a) loogika ja matemaatika formaalsetest väidetest või (b) konkreetsete teadusharude fakte esitavatest lausetes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sel fakti esitaval väitel on sisu ainult siis, kui on võimalik öelda, kuidas selle väite kehtivust kontrollid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tafüüsilised väited, mis ei lange punktide 1 ja 2 alla, on sisu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moraali, esteetikat ja religiooni käsitlevad väited on mittekontrollitavad ja mõtte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2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laude Shann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, 1938, Shannon’i magistritöö si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oole algeb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ilülitid ja -sk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tid ja info kod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 otsimise algorit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2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809880" cy="344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olem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sest kreeka keelest sõnast λόγος (logos), algtähendusega sõna ehk mida räägitaks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on teadus mõtlemise aluste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uurib mõtlemise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paratamatu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spekte ehk seda, mis üldse teeb mõtlemisest mõtlemise ehk õige mõtlemise ehk seda, mida ja kuidas üldse mõelda saa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alne loogika: teatud vaidlusmeetodite analüü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ne loogik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 ja algoritmid nö mehaaniliseks järelduste tegemise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e kui matemaatiliste objektide uurim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d on mõtlemise masin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6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3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714240" y="685800"/>
            <a:ext cx="4543560" cy="2743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143000" y="4572000"/>
            <a:ext cx="51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rad Zu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rogrammeeritavate arvutite pioneer saksamaal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36-38: Z1: puhtmehaanilin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38: Z2: rehkendus releedeg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41: Z3 perfolindiga, universaalselt programmeeritav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44-50: Z4: kommertsiaalne digitaalarvuti Zürichi tehnikaülikoolile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leedega rehkend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haaniline mälu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50-1967: Z5 ... Z64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By 1967, the Zuse KG had built a total of 251 computers. Due to financial problems, the company was then sold to Siemens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3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tanasoff’i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ohn Vincent Atanasof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2: esimene elektronarvuti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4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467000" y="1371600"/>
            <a:ext cx="6076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orden bombsigh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5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191120" cy="531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nigma, Geheimfernschreiber ja Lorenz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igma: alates 1920 aastat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renz SZ 40 and SZ 42 ja  Geheimfernschreiber: Saksa lennu- ja mereväg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5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292560" cy="32004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5130720" y="1473120"/>
            <a:ext cx="3556080" cy="264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lossus vs Loren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ndonis 1943: saksa allveelaevade salakirja dekodeeri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00 elektronlam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oloogia ja matemaatika: olulises osas Alan Turin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6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53920" y="2286000"/>
            <a:ext cx="3718080" cy="29718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4165560" y="4114800"/>
            <a:ext cx="4064040" cy="219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rk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ard Aike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’i elektriline (releed) digitaalne arvuti MARK 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750.000 komponen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5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7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647960" cy="313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ukes: massive comp necessary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5335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s atomic bomb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7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679840" y="1434960"/>
            <a:ext cx="3722400" cy="473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irst operative digital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8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600200" y="1600200"/>
            <a:ext cx="2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686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a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2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Fundamentaalseid mõtlemismeetode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n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atemaatika sissetulek: muutuja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ausemuutuja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 ja B, siis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i ole tõsi, et A ja mitte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-st järeldub B, ning A on tõsi, siis ka B on tõsi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Omadus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kõigil asjadel on omadus P, siis on olemas asi, millel on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???  Kui on olemas asi, millel on omadus P, siis on kõigil asjadel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7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menides (5 sajand e.m.a.) : kasutas pikki loogilisi põhjendus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Zenon Eleast (5 sajand e.m.a.)  - apooriad/paradok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fistid -  Sokrates (470-399 e.m.a)  - Platon (428/427 - 348/347 e.m.a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ristoteles: väidete struktuur kui iseseisev uurimisobjek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7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14600" y="3146400"/>
            <a:ext cx="4572000" cy="302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: Aristote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llogismide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koer on imetaj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neljajalgsed on koera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neljajalgsed on imetaj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kõik luiged on valg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lind on luik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lind on valg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tuse struktuuri võib seega esitada muutujate x,y ja z abil ning tuletus on õige sõltumata fraasidest, millega neid muutujaid asend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x on y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z on x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z on 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8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istotelese “kategoorilised väited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ükski b p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ei 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süllogis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väitlus, kus mingitest etteantud väidetest (eeldustest) järeldub paratamatult uus väide. Aristotelese puhul alati kaks kategoorilist eeldust, üks kategooriline järeld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8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ikud: lause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oikud uurisid, kuidas saab loogiliste sidesõnade (ja, ei, või, kui...siis) abil lihtsamatest lausetest keerulisemaid kokku panna ja kuidas näidata selliselt moodustatud lausete õigsu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esimene; järelikult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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mitte teine; järelikult mitte esime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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korraga esimene ja teine; esimene; järelikult mitte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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9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